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1CB-027A-4961-8436-CF728A07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3B9-FB4F-4EE1-8115-32B3A96D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1FE-7F7B-4E3C-BE7D-E482A504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0D0-9A2C-41FD-A9EC-81100165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442-F8B0-4495-9EF4-3080EE7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691-7D71-470E-8088-E7CF39F3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DD8-82D2-42A9-9088-C364F02F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656-F765-4B41-BB16-7B89D47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7D2-03F9-4D86-A3B0-8532AE18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668-301D-4CF4-A1F1-EBCE2584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CAA-67A2-40FE-8CB5-6E1F0E97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C4E-D873-4CE1-B35B-D38A6736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81AE-F598-4415-BAFB-75AE77EE9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" TargetMode="External"/><Relationship Id="rId2" Type="http://schemas.openxmlformats.org/officeDocument/2006/relationships/hyperlink" Target="http://www.flickr.com/" TargetMode="External"/><Relationship Id="rId3" Type="http://schemas.openxmlformats.org/officeDocument/2006/relationships/hyperlink" Target="http://www.flickr.com/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imoto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2057400"/>
            <a:ext cx="7924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imoto Mini-Proj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 are going to create an Animoto film about your year-long project to share with your classmates.  You must use the time wisely for this to be finished.  This will count as a test grade!!!!!  Follow the steps below in order to complete the project. Check off as you complete the steps!  GOOD LUCK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2860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SK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__ #1.  Create a folder in your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older and name it PIC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watch demonstration from Ms.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380880"/>
            <a:ext cx="6172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EP #1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812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 #2.  On a scrap sheet of paper, brainstorm a list of possible pictures that relate to your topic.  This will help you begin your search of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33526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_____  #3.  Use the internet to find pictures to insert into your Animoto.  Use the following websites to start looking for pi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lickr.co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then click images at t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___ #4. When you find a picture you want to use follow the steps below to save it to  the folder PICTURES you created in Step #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(watch demonstration from Ms.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left click on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hoose SAVE PICTUR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find the PICTURES FOLDER you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ame your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press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ff"/>
                </a:solidFill>
                <a:latin typeface="Arial"/>
              </a:rPr>
              <a:t>*you should make a folder of at least 15 picture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#5.  Once you have found all your pictures, it is time to begin putting together your Animoto. Go to the Animoto websit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nimot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rite down  your email and create pass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cord this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*See Ms. A if you need an email account!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8:52:52Z</dcterms:created>
  <dc:creator>Administrator</dc:creator>
  <dc:description/>
  <dc:language>en-US</dc:language>
  <cp:lastModifiedBy>Administrator</cp:lastModifiedBy>
  <dcterms:modified xsi:type="dcterms:W3CDTF">2009-05-29T19:05:36Z</dcterms:modified>
  <cp:revision>2</cp:revision>
  <dc:subject/>
  <dc:title>Slide 1</dc:title>
</cp:coreProperties>
</file>